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E4E-40D5-47F5-85F1-0EB30022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2908-0A63-40D0-8F64-ECC67A70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B7B4-014D-4CCE-98BA-E9983EA3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31D-8B6C-4B56-95E7-79DF5356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AA8-81C6-480C-924B-B8D66D75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37CC-F05B-4BF4-A277-0F52FBE8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1DDF-48E1-4EA4-AEB1-B919A592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64C8-FCEF-4716-AEC0-EEE93714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71A7-AFA9-451A-9A4A-D6DDF81B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50A-41CE-40CE-9681-661E4BD0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A08-20AB-4729-A2FC-0098F378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A456-1D80-40D1-ADC7-00AF4C69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77F6-5037-452E-AA46-55794D4F1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977760" y="722160"/>
            <a:ext cx="7188480" cy="54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044720" y="771480"/>
            <a:ext cx="705312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089000" y="789120"/>
            <a:ext cx="696456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089000" y="789120"/>
            <a:ext cx="696456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89000" y="793800"/>
            <a:ext cx="69645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089000" y="782640"/>
            <a:ext cx="696456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112760" y="800280"/>
            <a:ext cx="691848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157400" y="817560"/>
            <a:ext cx="68292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112760" y="777960"/>
            <a:ext cx="691848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112760" y="822240"/>
            <a:ext cx="69184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111320" y="795240"/>
            <a:ext cx="691992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54000" y="727200"/>
            <a:ext cx="7234200" cy="54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9000" y="811080"/>
            <a:ext cx="696456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157400" y="822240"/>
            <a:ext cx="68292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089000" y="811080"/>
            <a:ext cx="696456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112760" y="800280"/>
            <a:ext cx="691848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066680" y="789120"/>
            <a:ext cx="700884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066680" y="789120"/>
            <a:ext cx="700884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066680" y="755640"/>
            <a:ext cx="70088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022400" y="744480"/>
            <a:ext cx="70992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022400" y="731880"/>
            <a:ext cx="7099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1089000" y="782640"/>
            <a:ext cx="696456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044720" y="760320"/>
            <a:ext cx="70531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89000" y="771480"/>
            <a:ext cx="696456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8:31:14Z</dcterms:created>
  <dc:creator>bealst</dc:creator>
  <dc:description/>
  <dc:language>en-US</dc:language>
  <cp:lastModifiedBy>Ignacio</cp:lastModifiedBy>
  <dcterms:modified xsi:type="dcterms:W3CDTF">2010-11-07T14:02:28Z</dcterms:modified>
  <cp:revision>2</cp:revision>
  <dc:subject/>
  <dc:title>Slide 1</dc:title>
</cp:coreProperties>
</file>